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15A-F152-4E65-9251-7C996C7E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EA5-DF36-46CD-9C0A-088F3AE5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6F4-8F9E-4A2D-B3CC-A1531DA0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68C-F383-4D5E-AB4E-C2E21B42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CA5-FC9B-4FDE-B392-0F1D2571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AEA-E635-429F-880E-B23D326A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DAA-D009-44DB-B2FA-AB015692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903-F59D-4262-B415-314B15E2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545-241C-4D12-84C6-76AE99ED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D52-D976-452D-B1B4-80A5394A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ED1-B59B-4637-9333-C41C6C2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9DF-1590-4663-8B7B-2B9C9373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1CB7-0623-474C-A098-420FDC98FC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1J Populations and Simple Random S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urveys and s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urveys are used to collect data about a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target population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we need to conduct a survey on a large population (e.g. all Australians), a smaller representative group must first be selected. This small group is called a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sampl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sample siz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needs to be large enough for a survey to be effectiv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imple Random S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Consider a survey that investigates how frequently Australians exercise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To select a good sample, 2 things are important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Cambria"/>
              </a:rPr>
              <a:t>Each selection must be random</a:t>
            </a: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If our sample only contained professional athletes, the survey would be useles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mbria"/>
              </a:rPr>
              <a:t>2.</a:t>
            </a: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Cambria"/>
              </a:rPr>
              <a:t>Selections must be independent of each other</a:t>
            </a: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This means that 1 person being selected should </a:t>
            </a:r>
            <a:r>
              <a:rPr b="1" lang="en-AU" sz="2400" spc="-1" strike="noStrike">
                <a:solidFill>
                  <a:srgbClr val="000000"/>
                </a:solidFill>
                <a:latin typeface="Cambria"/>
              </a:rPr>
              <a:t>have no effect</a:t>
            </a: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 on the chances of anyone else being selected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A sample that meets both conditions is called a </a:t>
            </a:r>
            <a:r>
              <a:rPr b="1" lang="en-AU" sz="2400" spc="-1" strike="noStrike">
                <a:solidFill>
                  <a:srgbClr val="000000"/>
                </a:solidFill>
                <a:latin typeface="Cambria"/>
              </a:rPr>
              <a:t>simple random sample</a:t>
            </a: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Using Calculators to Select Simple Random S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ambria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Select a simple random sample of 8 students from a class of 25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en-AU" sz="2000" spc="-1" strike="noStrike">
                <a:solidFill>
                  <a:srgbClr val="000000"/>
                </a:solidFill>
                <a:latin typeface="Cambria"/>
              </a:rPr>
              <a:t>Steps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1. Number students from 1 to 25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2. On TI-Nspire CAS, go into </a:t>
            </a:r>
            <a:r>
              <a:rPr b="1" lang="en-AU" sz="2000" spc="-1" strike="noStrike">
                <a:solidFill>
                  <a:srgbClr val="000000"/>
                </a:solidFill>
                <a:latin typeface="Cambria"/>
              </a:rPr>
              <a:t>Calculator mod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3. press menu – 5: Probability – 4: Random – 2: Integ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4. randInt(1, 25) generates 1 random number from 1 to 25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randInt(1, 25, 8) generates 8 random numbers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5. If any numbers are duplicated, repeat the process and take the next unique number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* Simple Random Samples are a significant part of the first SAC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ercise 1J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Read p.51 to 5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ercise 1J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hoose six Tattslotto numbers (6 numbers between 1 and 45) randomly using your CAS calculato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0:39:51Z</dcterms:created>
  <dc:creator>08843474</dc:creator>
  <dc:description/>
  <dc:language>en-US</dc:language>
  <cp:lastModifiedBy>08843474</cp:lastModifiedBy>
  <dcterms:modified xsi:type="dcterms:W3CDTF">2011-02-07T11:49:29Z</dcterms:modified>
  <cp:revision>16</cp:revision>
  <dc:subject/>
  <dc:title>1J Simple Random Samples</dc:title>
</cp:coreProperties>
</file>